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7C7-231D-4E60-A909-A25693F9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1A9-B3A8-44B7-8DB9-1F0A3B1F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4D0-0F3C-4645-A8B3-CE0D6FA5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57F-10D0-440F-90D8-CB079650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E6AC-C30E-4E5C-8401-384B1C13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683B-0ED9-461E-BE11-D1970867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610D-2D2E-45E7-84F8-C28C696E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1E27-CD26-431E-B6DC-079F333D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B3E8-DADA-4D90-A36E-1E5178E9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AEC3-B5D6-4F66-A0B8-D0029194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2E05-1E3E-4611-9D99-52318F44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A45-A28C-4675-9626-7B809511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2838-1887-46FF-802E-680BF71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0BD9-B248-47E2-A1D7-20E64958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A637-0327-43B9-9076-8D7222D8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7E4C-1BDB-446A-AB5D-A3453C25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20A5-D3C5-462E-8D25-735FDDF0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5CFBF-9514-42B5-BFE9-C49A30B4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20971-9364-483E-B7E2-7D378095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81724-2F0D-4A34-99F5-6BF2345A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92229-E162-47AB-8755-EBCFE0DB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6E5B7-DC04-4C55-BA79-35262B29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CFB-A532-44B1-B5B6-9A341003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E40D7-8B0F-4D4E-8520-8FC41E0B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80A44-ED8C-40B9-8DF7-B7D2DBC7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80335-5F7C-4DBF-9DF8-BDE40C4A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F839B-FF6B-474D-B232-4EF30DB1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8F948-4092-40AA-8CF0-7E5551C2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1D1B8-2256-4132-B58A-E0B99020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51D26-E24A-4BFF-8090-4C082867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93045-71A7-4F5D-8BBA-771CA80A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30DA9-70E6-4740-962B-AF3A6362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79212-24FB-48F0-8FF8-6FC7A5B5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A1A-855A-4836-8335-10D6A5A0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ABF98-6398-4B54-B75C-F0BE0AF0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01020-EB50-4436-92D2-5EA45114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A31E1-FECB-45B3-AD5E-93D434B7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694C8-7343-48AA-8498-DE3F717E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0B9DA-904D-4BAA-8623-8CFD587C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E7B34-871E-41B5-809C-25F15B37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6768D-504A-4728-A873-54695A24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BCCCE-A6E2-4BF2-AC99-E833F701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0A40-A95E-4904-93CC-BE4FDE89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25E-5B21-41A3-834D-7B835E21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300-48E8-48E9-8E0E-1A3B094F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BD6-2406-4F3A-B0DA-5F495690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302-BFC3-4C1A-BE5E-2779FB0A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F93-EF87-4697-94BF-E319267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F88D1-009B-419D-81AB-82D1D217D65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725D2-D43B-4EC0-948E-E015E696E486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D2744-B748-40C3-B3C0-7464906A1CD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7F71A-35C7-4AE3-AE9F-4ECC0371A3B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c600"/>
                </a:solidFill>
                <a:latin typeface="Century Gothic"/>
              </a:rPr>
              <a:t>Intelligences, Personality Types, and Learning Styles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Chapter 2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Visual-Spatial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icture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lies on sense of sight and ability to visualize an objec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can create pictures in your hea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inguistic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ord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lates to words and languag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ritten and spoke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are a highly skilled writer, have a large vocabulary, and speak many languag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768240"/>
            <a:ext cx="7024680" cy="140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ogical-Mathematical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ogic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bility to solve logical problems and equations mentall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are good with numbers and doing calculation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tivit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ork through Activities #1-7 on p27-30 in your textbook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rite down the activity title (i.e.: Music Smart) and the statements that apply to you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mplete Activity #8 by writing a paragraph that answers the questions (5 sentences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y Intelligences - Result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usic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ody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eople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lf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icture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ord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ogic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y Intelligenc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usic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 have a pleasant singing voic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 can tell when a musical note is off-ke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 frequently listen to music on the radio, cassettes, or CD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 play a musical instrument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 can easily keep time to a piece of music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 know the tunes to many song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y Intelligenc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000" y="2324160"/>
            <a:ext cx="8170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Body Smar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like working with my hands by doing activities such as sewing, carving, model building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frequently use hand gestures or other forms of bodily language when I am talking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eople Smar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My friends come to me for advice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prefer team sports instead of solo sports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When I have a problem, I usually talk to another person about it instead of working it out on my own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have three close friends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would rather play games like Monopoly with other people instead of watching television or playing computer games by myself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would rather spend time with my friends than stay at home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y Intelligenc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01480" y="2323800"/>
            <a:ext cx="810432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elf Smar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like to spend time alone thinking and reflecting about my lif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like to take quizzes that enable me to learn more about myself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keep a personal diary or journal to record my thoughts about what happens to m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icture Smar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often see clear images when I close my eyes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enjoy doing jigsaw puzzles, 3D puzzles, and mazes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can look at an object one way and imagine what it would look like from a different angl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y Intelligenc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17680" y="2323800"/>
            <a:ext cx="8121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ord Smar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Books are very important to me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enjoy playing games that involve words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Others sometimes stop and ask me to explain the meaning of a word I am using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Logic Smar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can easily compute numbers in my head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Math and science are among my favourite subjects in school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enjoy playing games or solving brain teasers that require logical thinking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am good with computers and enjoy working on them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can easily see numerical patterns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like to put things in order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What It’s All Abou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68440" y="2323800"/>
            <a:ext cx="795312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fferent intelligences and which ones apply to you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at an emotional quotient is and how it contributes to your life skil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ersonality types, analyzing yours and others’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fferent learning styles, which one you have, and how it can improve your lear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eft-brained VS right-brained and how that affects your thinking and action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hapter 2 = Psycholog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000" y="2323800"/>
            <a:ext cx="82040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hapter 2 is about more scientific ways to learn more about yoursel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sychology = study of human natur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ill look at some theories that, based on years of research, tell us how and why we behave the way that we do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**when you know yourself, you can make choices, decisions and plans that are right for you**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asically what this careers course is all about!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Q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at’s an IQ tes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ocuses on ability in literacy (language) and numeracy (numbers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igher the number, the greater the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potential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intelligenc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verage = 100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Q = intelligence quotient, a number that decides your intelligence based on a standard tes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r. Howard Gardn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ought IQ test was too limit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ought humans are intelligent in many different are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dentified seven kinds of intelligence,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ULTIPLE INTELLIGENC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nk about the ways that you and others are talented – most likely their “intelligence” includes their tal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usical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ased on how musical you ar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respond to rhythm and be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may perform vocally/instrumentall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may compose music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852480"/>
            <a:ext cx="7024680" cy="13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odily/Kinesthetic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ody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lates to physical movem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ntrol of body movements/balance/agility/grace/etc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tERpersonal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eople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erson-to-person relationship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bility to interact with others, understand them, interpret their behaviou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otice people’s moods, feelings, thoughts without them telling you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tRApersonal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lf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ow well you understand yoursel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bility to have insight into who you are, what you feel, why you are the way you ar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an lead to high self-esteem and strength of character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solve personal problem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23:24:59Z</dcterms:created>
  <dc:creator>Sarah</dc:creator>
  <dc:description/>
  <dc:language>en-US</dc:language>
  <cp:lastModifiedBy>Sarah</cp:lastModifiedBy>
  <dcterms:modified xsi:type="dcterms:W3CDTF">2012-04-30T00:14:42Z</dcterms:modified>
  <cp:revision>7</cp:revision>
  <dc:subject/>
  <dc:title>Intelligences, Personality Types, and Learning Styles</dc:title>
</cp:coreProperties>
</file>